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B1715-7B6A-439E-B764-1922AD378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BF68-218B-4867-991E-5F429532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22A77-8299-485A-9027-1CA8BFE49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B010-DC41-4A96-BC2E-FAC2545C6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24A00F-7BDE-438C-88B5-A359D9F86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FFF210-1F80-44FD-8770-9B11D511A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1B1777-3A0C-46EF-AC5E-CA5807018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2C2E53-009B-465B-9A1F-434164E34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4FC0CC-91FF-4232-A8EC-FC7C39489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A7CA06-6FF0-44CE-A41A-828B2A7DC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3FB859-F471-4E36-B3E2-91C8AD622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9B58-F378-422A-9F73-E59C29424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4EF13B-C12C-4763-B984-277A4123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BA5F42-2554-48D2-8FDF-1F4585AEB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D60A3D-4A53-420C-A7DA-B22A79C3E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5A32AD-7769-4FD5-A7FC-66C50936A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9081FC-C9F1-4F16-BBAA-38CDB57F1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ADA6-CA7E-464D-B687-76E144C0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81992-6EDB-4559-BEE9-03F92F0D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55CD-F70E-4FDE-B1B4-29511D02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2AC5-0322-4882-81CA-919F95BC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77FA-4B7B-4C49-88E0-BD78D2BB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9EDC-32A3-42FE-9532-BB236DEC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6DEE0-AAA1-45EA-A25C-39DE2F12B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44AF-7A36-4BD8-AB56-162DB2872E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27D3-B773-4327-826F-F83DB1A45E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Trebuchet MS"/>
              </a:rPr>
              <a:t>When I Was Young in the Mountains</a:t>
            </a:r>
            <a:br>
              <a:rPr sz="4800"/>
            </a:br>
            <a:r>
              <a:rPr b="0" lang="en-US" sz="2800" spc="-1" strike="noStrike">
                <a:solidFill>
                  <a:srgbClr val="e3e3ff"/>
                </a:solidFill>
                <a:latin typeface="Trebuchet MS"/>
              </a:rPr>
              <a:t>By Cynthia Rylant</a:t>
            </a:r>
            <a:endParaRPr b="0" lang="en-US" sz="2800" spc="-1" strike="noStrike">
              <a:solidFill>
                <a:srgbClr val="e3e3ff"/>
              </a:solidFill>
              <a:latin typeface="Arial"/>
            </a:endParaRPr>
          </a:p>
        </p:txBody>
      </p:sp>
      <p:sp>
        <p:nvSpPr>
          <p:cNvPr id="123" name="PlaceHolder 2"/>
          <p:cNvSpPr>
            <a:spLocks noGrp="1"/>
          </p:cNvSpPr>
          <p:nvPr>
            <p:ph type="subTitle"/>
          </p:nvPr>
        </p:nvSpPr>
        <p:spPr>
          <a:xfrm>
            <a:off x="0" y="3505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rebuchet MS"/>
              </a:rPr>
              <a:t>Personal Narrative Writing</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rebuchet MS"/>
              </a:rPr>
              <a:t>Mrs. Tipton’s Fifth Grade</a:t>
            </a:r>
            <a:endParaRPr b="0" lang="en-US" sz="3200" spc="-1" strike="noStrike">
              <a:solidFill>
                <a:srgbClr val="ffffff"/>
              </a:solidFill>
              <a:latin typeface="Arial"/>
            </a:endParaRPr>
          </a:p>
        </p:txBody>
      </p:sp>
      <p:grpSp>
        <p:nvGrpSpPr>
          <p:cNvPr id="124" name="Group 7"/>
          <p:cNvGrpSpPr/>
          <p:nvPr/>
        </p:nvGrpSpPr>
        <p:grpSpPr>
          <a:xfrm>
            <a:off x="0" y="2154240"/>
            <a:ext cx="9144000" cy="2549520"/>
            <a:chOff x="0" y="2154240"/>
            <a:chExt cx="9144000" cy="2549520"/>
          </a:xfrm>
        </p:grpSpPr>
        <p:sp>
          <p:nvSpPr>
            <p:cNvPr id="125" name="Rectangle 4"/>
            <p:cNvSpPr/>
            <p:nvPr/>
          </p:nvSpPr>
          <p:spPr>
            <a:xfrm>
              <a:off x="0" y="2154240"/>
              <a:ext cx="9144000" cy="25495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26" name="Rectangle 5"/>
            <p:cNvSpPr/>
            <p:nvPr/>
          </p:nvSpPr>
          <p:spPr>
            <a:xfrm>
              <a:off x="0" y="2154240"/>
              <a:ext cx="9144000" cy="161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0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pic>
        <p:nvPicPr>
          <p:cNvPr id="127" name="Picture 6" descr="cover"/>
          <p:cNvPicPr/>
          <p:nvPr/>
        </p:nvPicPr>
        <p:blipFill>
          <a:blip r:embed="rId1"/>
          <a:stretch/>
        </p:blipFill>
        <p:spPr>
          <a:xfrm>
            <a:off x="6629400" y="2514600"/>
            <a:ext cx="172080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1905120" y="1676880"/>
            <a:ext cx="58672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cousin Peter was laid back into the water, and his white shirt stuck to him, and my Grandmother cri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cried because you were so happy?</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523880" y="1190160"/>
            <a:ext cx="60199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listened to frogs sing at dusk and awoke to cowbells outside our windows.  Sometimes a black snake came in the yard, and Grandmother would threaten it with a ho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saw someone do something that shocked you?</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447920" y="1570320"/>
            <a:ext cx="59436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did not leave, she used the hoe to kill it.  Four of us once draped a very long snake, dead of course, across our necks for a photograp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did something strang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1219320" y="1293840"/>
            <a:ext cx="670536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 was young in the mountains, we sat on the porch swing in the evenings, and Grandfather sharpened my pencils with his pocketknife.  Grandmother sometimes shelled beans and sometimes braided my hair.  The dogs lay around us, and the stars sparkled in the sky.  A bobwhite whistled in the forest.  Bob-bob-bobwhit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 was young in the mountains, I never wanted to go to the ocean, I never wanted to go to the desert.  I never wanted to go anywhere else in the world, for I was in the mountains.  And that was always enoug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was a time that being with your family felt good?</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1676520" y="1220040"/>
            <a:ext cx="61722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Grandfather came home in the evening covered with the black dust of a coal mine.  Only his lips were clean, and he used them to kiss the top of my he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that you were glad someone came hom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1371600" y="1265760"/>
            <a:ext cx="60958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Grandmother spread the table with hot cornbread, pinto beans, and fried okr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when someone made a special dinner for you?</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8"/>
          <p:cNvSpPr/>
          <p:nvPr/>
        </p:nvSpPr>
        <p:spPr>
          <a:xfrm>
            <a:off x="1523880" y="1099440"/>
            <a:ext cx="63248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in the middle of the night, she walked through the grass with me to the Johnny-house and held my hand in the dark.  I promised never to eat more than one serving of okra aga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someone held your hand because you were scared?</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1295280" y="1266120"/>
            <a:ext cx="65534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walked across the cow pasture and through the woods, carrying our towels.  The swimming hole was dark and muddy, and we sometimes saw snakes, but we jumped in anywa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were bra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1447920" y="1372320"/>
            <a:ext cx="6172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ur way home, we stopped at Mr. Crawford’s for a mound of white butter.  Mr. Crawford and Mrs. Crawford looked alike and always smelled of sweet but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smelled something so good it excited you?</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1523880" y="1235880"/>
            <a:ext cx="58676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pumped pails of water from the well at the bottom of the hill, and heated the water to fill the round tin tubs for our bath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felt warm and cozy?</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981080" y="1478520"/>
            <a:ext cx="55627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ward we stood in the front of the old black stove, shivering and giggling, while Grandmother heated cocoa on to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someone made something just for you?</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676520" y="1053720"/>
            <a:ext cx="594036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went to church in the schoolhouse on Sundays, and sometimes walked with the congregation through the cow pasture to the dark swimming hole, for baptism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when you did something special with your famil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9:20:29Z</dcterms:created>
  <dc:creator>Bryan Tipton</dc:creator>
  <dc:description/>
  <dc:language>en-US</dc:language>
  <cp:lastModifiedBy>laura.arnold</cp:lastModifiedBy>
  <dcterms:modified xsi:type="dcterms:W3CDTF">2013-01-14T20:39:52Z</dcterms:modified>
  <cp:revision>5</cp:revision>
  <dc:subject/>
  <dc:title>When I Was Young in the Mountains By Cynthia Rylant</dc:title>
</cp:coreProperties>
</file>